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39.png" ContentType="image/png"/>
  <Override PartName="/ppt/media/image11.wmf" ContentType="image/x-wmf"/>
  <Override PartName="/ppt/media/image32.wmf" ContentType="image/x-wmf"/>
  <Override PartName="/ppt/media/image35.png" ContentType="image/png"/>
  <Override PartName="/ppt/media/image36.wmf" ContentType="image/x-wmf"/>
  <Override PartName="/ppt/media/image13.wmf" ContentType="image/x-wmf"/>
  <Override PartName="/ppt/media/image14.png" ContentType="image/png"/>
  <Override PartName="/ppt/media/image41.png" ContentType="image/png"/>
  <Override PartName="/ppt/media/image9.wmf" ContentType="image/x-wmf"/>
  <Override PartName="/ppt/media/image37.wmf" ContentType="image/x-wmf"/>
  <Override PartName="/ppt/media/image42.png" ContentType="image/png"/>
  <Override PartName="/ppt/media/image4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6.jpeg" ContentType="image/jpeg"/>
  <Override PartName="/ppt/media/image5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0C8-EB7D-4EEB-B019-37452EA8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B5B-1428-4C96-8562-7C0B36BA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637-A73A-4E59-9212-A0FE901C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CDF-95EA-416E-9125-BC5FA27B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D964-7E12-4461-A7BB-24703DDB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AD20-CA67-41A6-A1E2-CE1A6FE4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1E92-62B3-4A74-8036-00D6969F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7632-2AAA-4B3D-9955-41923B4A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64BD-8AE3-43F1-88FB-87906583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8E18-B432-4A5D-97F6-4FA0F6C5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3D09-FE9B-464F-991A-D7C66946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CD2-5E8E-47D3-8AA1-2AC30D52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3E0-67E3-44CD-8888-10C841D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BEDD-F55B-4105-A624-D9159365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3E01-E428-4FD4-8D5D-EDDEC5B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62F1-B882-4937-8AEF-6DD2D0DD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C1AD-4F4B-4BEE-AD04-F1F3E89A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0CD-1399-4564-94A7-386E18B5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7BA-86E9-4E00-9619-87FB6F5B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9E2-ABAF-4AC4-9D6C-E7DED8FB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7CB-245F-4E52-A4E3-3FB99D99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1A7-B902-4EEF-9FA8-8FDCD38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74C-EC9F-40DF-9347-6173504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E15-8965-4C05-B752-2C1472A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D74-093F-4CFB-8011-D21B1F45AF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EF6A-AA2D-4996-BDAA-BB3B9BABFF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600" spc="-1" strike="noStrike">
                <a:solidFill>
                  <a:srgbClr val="330033"/>
                </a:solidFill>
                <a:latin typeface="Times New Roman"/>
              </a:rPr>
              <a:t>Soliton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Comunicaciones por Fibra óp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0033"/>
                </a:solidFill>
                <a:latin typeface="Times New Roman"/>
              </a:rPr>
              <a:t>Representaciones de Solitones de orden unitario (N=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042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0033"/>
                </a:solidFill>
                <a:latin typeface="Times New Roman"/>
              </a:rPr>
              <a:t>Representaciones de Solitones de orden superior (N=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24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i="1" lang="es-CL" sz="3200" spc="-1" strike="noStrike">
                <a:solidFill>
                  <a:srgbClr val="330033"/>
                </a:solidFill>
                <a:latin typeface="Times New Roman"/>
              </a:rPr>
              <a:t>Transmisión de Información con Soliton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únmente se utiliza el formato RZ ya que necesitamos que los pulsos estén bien sepa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otencia peak necesaria para exitar el solitón fundamental tomando N=1 (orden 1) está d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3640" y="2637000"/>
          <a:ext cx="18000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637000"/>
                    <a:ext cx="18000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03280" y="4797360"/>
          <a:ext cx="216072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797360"/>
                    <a:ext cx="21607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716360" y="5084640"/>
          <a:ext cx="163512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5084640"/>
                    <a:ext cx="16351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Interacción entre Solit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resencia de solitones en los bits vecinos perturba al soliton ,simplemente por el hecho de que los campos ópticos no son solución de la ecuación N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olviendo las ecs. NLS numéricamente ,tomando la separación entre solitones qo=3,5 y r=1(igual amplitud entre solitones vecinos) nos d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itones colisionan periódicamente a través de la fi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16000" y="4437000"/>
          <a:ext cx="14400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437000"/>
                    <a:ext cx="1440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187280" y="3573360"/>
          <a:ext cx="144000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573360"/>
                    <a:ext cx="1440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546280" y="4556160"/>
            <a:ext cx="66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itones se separan despues de una etapa de atr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42920" y="5300640"/>
          <a:ext cx="144000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300640"/>
                    <a:ext cx="1440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84360" y="549108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itones se separan más fuertemente y su esparciamiento aumenta con la dis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Interacción entre Solit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19280" y="1844640"/>
          <a:ext cx="60498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60498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Interacción entre Solit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s aceptable porque produce Jitter en el tiempo de llegada de los solit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ución: Aumentar la distancia entre solitones vecinos (q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hora si                     ,la interacción entre solitones puede 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reci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ando se llega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s :El espaciamiento puede ser reducido en un factor de 2 usando amplitudes distintas (r=1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916360" y="3860640"/>
          <a:ext cx="22176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860640"/>
                    <a:ext cx="2217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411280" y="2708280"/>
          <a:ext cx="1224000" cy="3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708280"/>
                    <a:ext cx="12240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Chirp de Frecuenc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 sólo se necesita que el pulso tenga un perfil “sech”,también debe estar libre de Chi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uchas fuentes de pulsos ópticos cortos tienen incorporados un chirp de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chirp al inicio puede ser perjudicial, ya que este perturba el balance exacto entre GVD y S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Chirp de Frecuenc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os solitones se pueden llegar a formar para pequeños valores |c|, ya que estos son estables bajo pequeñas perturbaciones.Si |c| es mayor que el valor crítico (Ccrit) los solitones no se llegan a formar. Ccrit se puede obtener usando inverse scattering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 bien se pueden llegar a formar solitones cuando |c|&lt;Ccrit ,estos producen ondas dispersivas que hacen disminuir la energía del soli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Transmisión de Solit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fuente óptica puede operar cerca de los 1.55[um] donde las perdidas de la fibra son mínimas y donde los EDFA’s pueden ser usados para compens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n utilizar Láser-Semiconductor como fuente que es una alternativa mas interesante ,ya que pueden emitir pulsos ópticos de baja duración libres de chi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Loss-Managed Solit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fenómeno SPM se mantiene solo cuando las perdidas en la fibra son despreciables,ya que una reducción en el peak de potencia debilita el efecto SPM necesario para compensar G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erdidas en la fibra están da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necesario compensar las perdidas con ampl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79640" y="3860640"/>
          <a:ext cx="2089080" cy="7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860640"/>
                    <a:ext cx="208908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3860640"/>
          <a:ext cx="2592360" cy="6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860640"/>
                    <a:ext cx="2592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Integra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Jean Fur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drés R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Lumped Amplifi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separación entre amplificadores tiene que ser maximizada para minimizar cos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que los solitones mantengan su forma se debe cumplir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076720" y="3068640"/>
          <a:ext cx="7794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3068640"/>
                    <a:ext cx="7794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484360" y="4005360"/>
          <a:ext cx="3095640" cy="86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005360"/>
                    <a:ext cx="3095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5445000"/>
          <a:ext cx="779400" cy="3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445000"/>
                    <a:ext cx="7794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mplificación Distribuida Ram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recomendable utilizar amplificación bidireccional con un bombeo tipo fordward ya que produce una menor variación en la energía la cual afecta el S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03280" y="2852640"/>
          <a:ext cx="583272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852640"/>
                    <a:ext cx="583272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s-CL" sz="3200" spc="-1" strike="noStrike">
                <a:solidFill>
                  <a:srgbClr val="330033"/>
                </a:solidFill>
                <a:latin typeface="Times New Roman"/>
              </a:rPr>
              <a:t>DM o Dispersión Compensada periódic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mplea comúnmente para sistemas W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bras DDF(Dispersion-Decreasing fiber):Con este tipo de fibra decrece el GVD contrarrestando la disminución del SPM producido por las pérdidas en la fi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n utilizar amplificadores tipo concentrado a cualquier distancia sin tomar en cuenta la condi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076720" y="5229360"/>
          <a:ext cx="122400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5229360"/>
                    <a:ext cx="122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0033"/>
                </a:solidFill>
                <a:latin typeface="Times New Roman"/>
              </a:rPr>
              <a:t>Mapas de Dispersión Periódica</a:t>
            </a:r>
            <a:r>
              <a:rPr b="0" lang="es-CL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CL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Consiste en utilizar fibras con un GVD alternado(      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Al utilizar periodos de mapas, que son una fracc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,los efectos no lineales son relativamente más pequeñ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l peak de la potencia ,ancho y la forma van oscilando periódicamente por estos mapa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La energía peak de los solitones en DM es más que en GVD promedio lo que implica una mejor SNR y disminuye el Jit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Todo esto permite realizar un upgrade de las actuales fibras estándar instal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596360" y="1628640"/>
          <a:ext cx="64764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628640"/>
                    <a:ext cx="647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403280" y="2276640"/>
          <a:ext cx="50328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276640"/>
                    <a:ext cx="503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Sistema Solitónico WD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solitones se propagan a diferentes velocidades por las diferentes frecuencias que po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XPM adquiere importancia cuando los solitones pertenecientes a los canales vecinos se traslapan ( interactúan).XPM produce una variación de la frecuencia durante la colisión,la máxima desviación en frecuencia depende del esparciamiento entre canales y esta da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771640" y="5013360"/>
          <a:ext cx="345924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5013360"/>
                    <a:ext cx="3459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mplificación Concentra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bido a las variaciones de energía, producto de la utilización de amplificadores, existe un cambio de frecuencia (como resultado el soliton no recobra su frecuencia original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que esto  no ocurra se diseña considerando                      (safe region)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see un valor límite de 5         donde          es el ancho espectral (FWHM) de los solit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564000" y="4292640"/>
          <a:ext cx="180000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292640"/>
                    <a:ext cx="18000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7812000" y="4292640"/>
          <a:ext cx="66996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0" y="4292640"/>
                    <a:ext cx="6699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219640" y="4797360"/>
          <a:ext cx="64764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4797360"/>
                    <a:ext cx="647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7164360" y="4653000"/>
          <a:ext cx="617400" cy="6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4360" y="4653000"/>
                    <a:ext cx="6174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mplificación Concentrad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826920" y="2060640"/>
          <a:ext cx="777240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77240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Timing Jit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f :variación o adelantamiento e relación al centro de su bits slot .Esto se produce por cambios en la frecuencia ,lo que se traduce en cambios de la velocidad de propag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Se tiene que al aumentar el Bit Rate se obtienen sistemas solitónicos de gran velocidad ,pero el bit slot se hace más pequeño(     ) y si se reduce bajo los 5 [ps] los efectos no lineales deben consid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916360" y="4724280"/>
          <a:ext cx="41256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724280"/>
                    <a:ext cx="412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0033"/>
                </a:solidFill>
                <a:latin typeface="Times New Roman"/>
              </a:rPr>
              <a:t>DM o Dispersión Compensada períodic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ulaciones numéricas muestran la posibilidad de transmitir solitones DM a 40[Gb/s] sobre 2000 [Km] de fibra estándar si el promedio GVD de la dispersión map es mantenida relativamente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caso de WDM,el parámetro GVD debería ser relativamente largo (            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fibras con GVD normal y anormal para suprimir los efectos no lineales como XPM y FW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516720" y="3933720"/>
          <a:ext cx="194472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3933720"/>
                    <a:ext cx="19447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Interacción de Solitones D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n a que el bit slot llega a ser muy pequeño debido al aumento del Bi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bería ser superior a 4 para que el sistema funcione correc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132000" y="2708280"/>
          <a:ext cx="23288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708280"/>
                    <a:ext cx="23288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258920" y="3500280"/>
          <a:ext cx="5065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500280"/>
                    <a:ext cx="506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es-CL" sz="60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soliton es un tipo particular de ondas que bajo ciertas condiciones se propagan en solitario y sin distorsión indefinid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cia de Solitones en la Fibra se debe al balance de dos fenómen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persión por Velocidad de Grupo (G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tomodulación de Fase (S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0033"/>
                </a:solidFill>
                <a:latin typeface="Times New Roman"/>
              </a:rPr>
              <a:t>Impacto en el ruido de amplific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amplificadores restauran la energía del solitón pero agregan 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ulso a la salida del amplificador no corresponde al del soliton fundamental ideal,luego el soliton trata de ajustar su fo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jitter debería ser menor que el 10% de el bit slot en la prac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figura se muestra como el tiempo jitter se incrementa con el largo del enlace para transmitir solitones de 10[Gb/s] usando dispersión compens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42920" y="189000"/>
          <a:ext cx="7201080" cy="40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9000"/>
                    <a:ext cx="720108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      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ocupará detectores ópticos APD con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 sensibilidad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ntes láser (DFB) 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58920" y="2205000"/>
          <a:ext cx="163836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16383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796000" y="2133720"/>
          <a:ext cx="215892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133720"/>
                    <a:ext cx="21589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292720" y="2708280"/>
          <a:ext cx="176364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708280"/>
                    <a:ext cx="17636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Footlight MT Light"/>
              </a:rPr>
              <a:t>Power Budget (Balance de Potencia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176720" cy="869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286000" y="2971800"/>
            <a:ext cx="49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: Perdidas totales del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s: Margen del sistema (tipicamente 6 [dB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4608360" cy="73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Footlight MT Light"/>
              </a:rPr>
              <a:t>        </a:t>
            </a:r>
            <a:r>
              <a:rPr b="0" lang="es-ES" sz="4200" spc="-1" strike="noStrike">
                <a:solidFill>
                  <a:srgbClr val="000000"/>
                </a:solidFill>
                <a:latin typeface="Footlight MT Light"/>
              </a:rPr>
              <a:t>Rise-Time Budg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ootlight MT Light"/>
              </a:rPr>
              <a:t>Su propósito es asegurar que el enlace pueda operar al bit-rate presupue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ootlight MT Light"/>
              </a:rPr>
              <a:t>Se define como el tiempo durante el cual la respuesta de un sistema lineal va desde 10 a 90% de su valor de salida final cuando la entrada cambia abrup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27280" y="4724280"/>
            <a:ext cx="32400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Footlight MT Light"/>
              </a:rPr>
              <a:t>         </a:t>
            </a:r>
            <a:r>
              <a:rPr b="0" lang="es-ES" sz="4200" spc="-1" strike="noStrike">
                <a:solidFill>
                  <a:srgbClr val="000000"/>
                </a:solidFill>
                <a:latin typeface="Footlight MT Light"/>
              </a:rPr>
              <a:t>Rise-Time Budg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3025800" cy="59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71640" y="1844640"/>
            <a:ext cx="7200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tres componentes principales de un sistema de comunicaciones óptico tienen Rise-Times individu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Rise-Time del sistema completo está relacionado con los Rise-Time individuales por la siguiente rel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63640" y="486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: Rise-Time del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iber: Rise-Time de la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ec: Rise-Time d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Criterios para Desempeño optim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ootlight MT Light"/>
              </a:rPr>
              <a:t>Para el caso de fibras monomodo</a:t>
            </a:r>
            <a:r>
              <a:rPr b="0" lang="es-E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Footlight MT Light"/>
              </a:rPr>
              <a:t>modal </a:t>
            </a:r>
            <a:r>
              <a:rPr b="0" lang="es-ES" sz="3200" spc="-1" strike="noStrike">
                <a:solidFill>
                  <a:srgbClr val="000000"/>
                </a:solidFill>
                <a:latin typeface="Footlight MT Light"/>
              </a:rPr>
              <a:t>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ootlight MT Light"/>
              </a:rPr>
              <a:t>Por lo tanto,</a:t>
            </a:r>
            <a:r>
              <a:rPr b="0" lang="es-E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Footlight MT Light"/>
              </a:rPr>
              <a:t>fibra</a:t>
            </a:r>
            <a:r>
              <a:rPr b="0" lang="es-ES" sz="2800" spc="-1" strike="noStrike">
                <a:solidFill>
                  <a:srgbClr val="000000"/>
                </a:solidFill>
                <a:latin typeface="Footlight MT Light"/>
              </a:rPr>
              <a:t> = </a:t>
            </a:r>
            <a:r>
              <a:rPr b="0" lang="es-ES" sz="32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s-ES" sz="1200" spc="-1" strike="noStrike">
                <a:solidFill>
                  <a:srgbClr val="000000"/>
                </a:solidFill>
                <a:latin typeface="Footlight MT Light"/>
              </a:rPr>
              <a:t>GV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λ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el ancho espectral de la fuente óp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132000" y="2924280"/>
            <a:ext cx="208944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2843280" y="4767120"/>
          <a:ext cx="2041560" cy="4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767120"/>
                    <a:ext cx="2041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Conclusi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utomodulación de Fase (SPM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nómeno No-Lin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ntensidad de los pulsos depende del Índice de Refra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e Chirping positivo, que depende de la  potencia del pulso y como      es negativo en la región de 1.55 [um],el pulso chirpeado es comprim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12000" y="3500280"/>
          <a:ext cx="50328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500280"/>
                    <a:ext cx="5032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ispersión por Velocidad de Grupo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                   (GVD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nómeno 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pendencia del Chirp(C) de la Fuente 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velocidad de grupo asociada con el modo fundamental es dependiente de la frecuencia, por ende las diferentes componentes espectrales del pulso viajan a velocidades diferentes, produciendo un ensanch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Forma de un Solit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3946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33"/>
                </a:solidFill>
                <a:latin typeface="Times New Roman"/>
              </a:rPr>
              <a:t>Ecuación No lineal de Schröedinger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12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uación de propagación para la envolvente de un pulso A(z,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 ecuación modela el movimiento de los soli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76360" y="2924280"/>
          <a:ext cx="684072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6840720" cy="933480"/>
                  </a:xfrm>
                  <a:prstGeom prst="rect">
                    <a:avLst/>
                  </a:prstGeom>
                  <a:ln w="9360">
                    <a:solidFill>
                      <a:srgbClr val="330033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35280" y="4508640"/>
                <a:ext cx="1656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 Matemático de un Solitón en un Medio No Lineal Dispersivo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33"/>
                </a:solidFill>
                <a:latin typeface="Symbol"/>
                <a:ea typeface="Symbol"/>
              </a:rPr>
              <a:t></a:t>
            </a: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:  constante de aten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33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1 = vg-1, donde vg : velocidad de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33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2, </a:t>
            </a:r>
            <a:r>
              <a:rPr b="0" lang="es-ES_tradnl" sz="2800" spc="-1" strike="noStrike">
                <a:solidFill>
                  <a:srgbClr val="330033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3 : Parámetros de disp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33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: Parámetro de no line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n2 : índice de refracción no 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33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: Longitud de o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33"/>
                </a:solidFill>
                <a:latin typeface="Arial"/>
              </a:rPr>
              <a:t>Aeff : Área de núcleo ef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forma normalizada de la ecuación de Schröedinger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76280"/>
            <a:ext cx="71578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33"/>
                </a:solidFill>
                <a:latin typeface="Times New Roman"/>
              </a:rPr>
              <a:t>Ecuación No lineal de Schröeding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2421000"/>
          <a:ext cx="160020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1600200" cy="950760"/>
                  </a:xfrm>
                  <a:prstGeom prst="rect">
                    <a:avLst/>
                  </a:prstGeom>
                  <a:ln w="9360">
                    <a:solidFill>
                      <a:srgbClr val="330033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868480" y="2421000"/>
                <a:ext cx="115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240080" y="2421000"/>
                <a:ext cx="14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5916600" y="2421000"/>
          <a:ext cx="141444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6600" y="2421000"/>
                    <a:ext cx="1414440" cy="1092240"/>
                  </a:xfrm>
                  <a:prstGeom prst="rect">
                    <a:avLst/>
                  </a:prstGeom>
                  <a:ln w="9360">
                    <a:solidFill>
                      <a:srgbClr val="330033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496880" y="3564000"/>
                <a:ext cx="1600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325680" y="3564000"/>
                <a:ext cx="10670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621320" y="3564000"/>
                <a:ext cx="1199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900000" y="429264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reemplazando, tenemos la ecuación normaliz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03280" y="4869000"/>
                <a:ext cx="5400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ξ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5:00:45Z</dcterms:created>
  <dc:creator>Jean Paul Furnes</dc:creator>
  <dc:description/>
  <dc:language>en-US</dc:language>
  <cp:lastModifiedBy>Jean Paul Furnes</cp:lastModifiedBy>
  <dcterms:modified xsi:type="dcterms:W3CDTF">2007-12-06T21:12:59Z</dcterms:modified>
  <cp:revision>57</cp:revision>
  <dc:subject/>
  <dc:title>Solitones</dc:title>
</cp:coreProperties>
</file>